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1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2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2D7E7F-EEBB-4DA3-AADC-E0D5D9377B2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39840" y="80028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74668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Sociālā uzņēmējdarbība ļauj risināt sociālās problēmas ar biznesa instrumentiem - uzņēmums ražo preces vai sniedz pakalpojumus ar mērķi risināt sociālo problēmu, nevis ar mērķi gūt finansiālu labumu uzņēmuma īpašnieki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eidojot sociālo uzņēmumu, pirmais ar ko būtu jāsāk ir izzināt mūsu sabiedrības problēmas un vajadzība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ejot no tā, definē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sava uzņēmuma sociālo mērķi (tam ir jābūt pozitīvai sociālai ietekmei un jābūt definētam statūtos vai citā līdzvērtīgā dokument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- biznesa ideju, kurai tici un kura ilgtermiņā būs dzīvotspējīga (tai jānes peļņu, lai varētu konkurēt ar citiem uzņēmumiem tirgū un   investēt sociālajos uzņēmuma mērķo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290130-D15F-4320-B14B-07FE8EB5EE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635-DDC8-4CF3-B8C2-384B69D2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E8E-00C7-436D-AC90-ECE4F3A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E541C-D58E-466A-971A-7279BB90478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C3558-D232-4173-B9F4-6A088F4F05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6E209-1918-497D-B7F1-0B6D502F98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C4EC9-BB3E-4D69-902C-73DEDD7ECF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51CC0B-76EB-4C4C-BB5E-EBE0EA66A0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2DE18-0B1D-4E4C-AFAD-18C45B391A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095C4-545F-4288-BCF8-708CE4BC9A7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D6150-0E8C-4FA6-919C-49DC708159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3D0C1-F615-4EBB-B5FF-46C1754660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667-CC96-4DED-9D3A-C601D397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22C-DAA3-4F53-B77C-A25B04CF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B6004-ABF2-46BC-B325-3060E7BC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6417F-828D-47B5-93FC-BDB3033D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4604A-EA28-4BCE-A0C8-39BD272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721CA-3073-4C41-9E1E-3C0F9A8F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2F2F4-FA43-49FC-96DC-7200EC91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C2DBA-EF0E-49EA-9E25-2719807D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9B05CB-1F68-4E9F-9CD2-09377E9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69B388-2307-4D29-83EE-0F928B4E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8C79B9-C14F-4823-8F57-4D96B1CF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2AE1A-73C9-479E-AD34-1414924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43A476-4C36-420A-AC8D-113157E4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93A6D-747E-402A-B73D-3C26D0D1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0568DB-4A50-43B3-BC73-772C7A84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F6D0D-CC93-4F7F-8D22-92531291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A3461B-546E-41B8-981D-02D1D013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2403EF-7842-457C-BA15-88DBEDD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7849A3-EE65-44B2-B549-B32BC4B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F0B91C-EECB-4233-AF39-08137CC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77767-0F87-4587-AB2A-66B2A9D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91DFCB-A9CE-4C9F-A7BA-ADE429B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33239B-32FA-4266-B7D1-20D2A323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E1B09-B057-4486-A771-CC5E28B0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09DD9F-732B-4B1C-802F-29CAA38F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89003-0F71-4C87-A0B3-230720CE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7513FC-414A-41E9-962A-82E39562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02DAC-1CFC-483C-BBA9-3D5C420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12E3BE-CB4D-411D-A3BB-BDB906FA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53B181-164A-4589-AA30-D1907C5C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6F2CEB-F83C-4602-A7C0-44B1C080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F8FCEE-7A0D-47A5-AAB7-B612D53A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65A566-B50D-4DC5-A60B-74BFE0F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475028-3FD8-44CD-9785-14C7ECF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0A43D3-2E09-4944-B96A-FE12E3A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913407-E57B-4AA3-BAEE-2E5628D0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0CD5D-AD4B-4C39-A9B7-7EC7542F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2ACB4E-1958-4873-B733-396E9D25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8E0-079D-4FA3-8D0F-D9A9FFB5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8FCD4-6C98-4935-8D77-EE3DB46EDF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C444F-CD75-459B-A5E2-B916D0BA7A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B3EE1-FE6F-43E2-9388-685575E9EE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A8618-FA8C-4BB4-9DC7-88B6C2A195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BF74D-728A-4E5A-944E-2F54B9934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00F-B18C-4FC2-A5CD-40D64F3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49309-6BF5-4BA4-8C30-2966B82F98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AEA3B-D2F8-42FB-B4D0-DDFF19A88D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63F2E-7D9C-4C10-B4D0-13D4389D89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6E661-B221-4D20-932E-DEB5D7644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4A904-0DDD-496F-A943-FECF58C2BA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F831B-A6A6-4511-A022-39102B4EEF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62822-4AEE-4184-A0EB-711B341FEA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CEF0E-DAC5-4ABD-ADB7-6E44FA9427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5A180-4F1D-41DB-8FE4-A5BA7988F6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44CBA-1C74-46FA-A09B-FFF28F3B8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CA6-6DB4-4C7B-ABF9-024CAD9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7698-0987-4155-B335-DE6EDFE921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FC94-6457-4067-97B5-B19CC2BF2B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18018-AB69-48CB-A603-4989C6DCDA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0315-2580-4BA2-873F-45B9A2C3C0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5EED6-81B7-458E-AEB1-3DC5818CE8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99916-A735-4428-8BCF-7CC1AD9451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42C5E-235F-454F-A3FE-6DA7EF6B84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81362-B67E-40D9-AD66-E90908207F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DC86-0CD3-486F-B501-356BBFB5DC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160E-6158-46A0-A0AE-A0EF43163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ABE-AABA-4ED6-BF6A-BCDE05E2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ADD6-BB7A-4CD5-9C67-8DB8C6BB176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235D-F7DA-4467-BF8B-2139363DE74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E973-2D20-49DB-A7E1-A7205C21D5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0CC-82B6-49D3-9996-4AA5AB0A51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C7D-DEC0-4523-B488-2F7F33BA8D2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6947-E28B-4994-9CD0-4F25B9D2EC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5F6D-A5B4-45CA-A777-9A270C6009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2501-7BD0-4D5C-B6FC-81F7D0DA9DC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5D0C-B854-4B3C-AA8D-1B2E588C86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E66-9C3C-40FB-8A4B-40591B3FC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963-CBD0-4887-9B7D-590156FA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0A9D-3D1A-499F-A8AB-063E676BB7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E3BFB-A962-408B-A539-12E1703CF1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54AB4-D35A-4856-BA23-B87FFFBA3E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B92AB-1343-4703-BC41-A6D6D60C5D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EA520-E5FA-459B-82E7-205F5A8275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58C2D-A9BC-435F-A1BE-7135851353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E6D90-2851-41D4-BA65-5CAC7ECB0E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B5902-DDF1-40C5-9A44-680A3AFD87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17F84-021E-42AA-9A94-5A73174E60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AE36D-EDB7-4068-9BAD-2E3F8523D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4B3-B9EB-4AB1-8A2C-88899A69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7446E-06B5-4EA4-A480-3AEEB99141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980758-A9CD-4DA1-A4BD-297C0C03F0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828FB-84F4-4EF3-AB58-1F3C9992E21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8B9DF-7EF0-4395-9F26-F6FD8763B2A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C4CF2-E662-481C-A7E1-822145C8D2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B702B-DD84-40A1-8B34-0B30FAF9D4D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3BB8B-72A5-45DD-A02F-FAE4477DB1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4D754-1069-45D6-A612-28D5CE118E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69791-E6F6-4605-9B9C-D59F2374B4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913E6-877A-4F1F-8CF8-C911F4108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284-479A-4638-B026-A464C65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0DA5A-8A73-4BF6-ACFB-0BF1C350BD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EA125-B5B3-43CC-842D-F09ABF2F1D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025AD-A656-48D3-8103-0E081D8BA7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98DAD-3A2B-4695-8ACB-2D12CEAA59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FD0F2-51C5-4D96-BDAB-1727D590F8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A260-171B-4398-9626-5EC30CE2E5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75F5-BF0A-4E4F-82F0-710F65A7CB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EC81-892D-4EC4-ADA5-A2F20B3866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64A66-DF15-475B-98EC-CA39DA1F67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31AE-6340-43A1-8999-031EBAF6D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6D6-408A-44E5-8DAA-FC8E225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1A4C-11D8-4C3E-8B80-B82640BC49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AC277-F760-472D-AE60-B15EE11695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0F30-D6E7-4A2A-8C89-3AA842CDA6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EEBA8-B86D-42F3-B75B-013B26853D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75C9-7049-4F2E-A97E-32E885064AD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2C94-D16C-4551-804E-ACB924E5767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F13A-E42B-40B4-8016-CC563EB827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A7BDC-AE95-4590-8146-F73EC957E4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4176C-B9D4-44CE-86F3-5DA9260DB9B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5C79B-610C-4D61-A4F9-38B48BC9D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9778E0-0F5B-44A1-9828-3DA6E6E56D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21A883-B18C-433A-B84E-A9273E200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419447-A3FE-441A-A3B4-C04AA10CF022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AD5E4A-003A-45EA-AEF4-359A70AE971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3E1EC6-BF36-4EB1-8A26-9779DC3D0A2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C4330F-95E8-4FE9-BE22-6BCBD082643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E4F32A-2497-407C-957B-6EF35EF65768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557287-7F78-430C-ACC8-82ED848B790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1E8686-5683-42BC-9938-0EA2689CD3B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C723FF-24DA-417D-B73D-7C8874D9CE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371A49-6060-4647-833B-BBDF97BB84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B3B0F5-37EB-479F-9CE4-F65C1B9553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CA0952-F22A-434B-96C9-2B43C2FE77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B09983-A7E3-4E13-B40C-695C6C8FD0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F979AB0-AC84-4266-B8F7-2111E29CCA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66880" y="281304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projekta</a:t>
            </a:r>
            <a:br>
              <a:rPr sz="1900"/>
            </a:br>
            <a:r>
              <a:rPr b="1" lang="lv-LV" sz="1900" spc="-1" strike="noStrike">
                <a:solidFill>
                  <a:srgbClr val="404040"/>
                </a:solidFill>
                <a:latin typeface="Verdana"/>
                <a:ea typeface="Verdana"/>
              </a:rPr>
              <a:t>«Atbalsts sociālajai uzņēmējdarbībai»</a:t>
            </a:r>
            <a:r>
              <a:rPr b="1" lang="lv-LV" sz="2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br>
              <a:rPr sz="2600"/>
            </a:br>
            <a:r>
              <a:rPr b="1" lang="lv-LV" sz="1100" spc="-1" strike="noStrike">
                <a:solidFill>
                  <a:srgbClr val="404040"/>
                </a:solidFill>
                <a:latin typeface="Verdana"/>
                <a:ea typeface="Verdana"/>
              </a:rPr>
              <a:t>vienošanās Nr. 9.1.1.3/15/I/001 </a:t>
            </a:r>
            <a:br>
              <a:rPr sz="700"/>
            </a:br>
            <a:br>
              <a:rPr sz="1900"/>
            </a:br>
            <a:br>
              <a:rPr sz="1600"/>
            </a:br>
            <a:br>
              <a:rPr sz="2000"/>
            </a:br>
            <a:br>
              <a:rPr sz="2200"/>
            </a:br>
            <a:br>
              <a:rPr sz="1900"/>
            </a:br>
            <a:br>
              <a:rPr sz="1900"/>
            </a:br>
            <a:br>
              <a:rPr sz="1700"/>
            </a:br>
            <a:br>
              <a:rPr sz="1700"/>
            </a:br>
            <a:br>
              <a:rPr sz="13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8640" y="587988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2128680" y="4994280"/>
            <a:ext cx="52484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30040" y="1116000"/>
            <a:ext cx="68180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par projek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1866600"/>
            <a:ext cx="91137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s tiks īstenot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Eiropas Sociālā fonda darbības programmas „Izaugsme un nodarbinātība” 9.1.1. specifiskā atbalsta mērķa „Palielināt nelabvēlīgākā situācijā esošu bezdarbnieku iekļaušanos darba tirgū” 9.1.1.3.pasākuma «Atbalsts sociālajai uzņēmējdarbībai»  ietvar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tāj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Labklājības ministrij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partneri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pt-BR" sz="1700" spc="-1" strike="noStrike">
                <a:solidFill>
                  <a:srgbClr val="404040"/>
                </a:solidFill>
                <a:latin typeface="Verdana"/>
                <a:ea typeface="Verdana"/>
              </a:rPr>
              <a:t>AS "Attīstības finanšu institūcija Altum"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lānotās izmaksa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0" lang="lv-LV" sz="1700" spc="-1" strike="noStrike">
                <a:solidFill>
                  <a:srgbClr val="404040"/>
                </a:solidFill>
                <a:latin typeface="Times New Roman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19 920 206</a:t>
            </a:r>
            <a:r>
              <a:rPr b="0" i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euro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Projekta īstenošanas laiks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r>
              <a:rPr b="1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700" spc="-1" strike="noStrike">
                <a:solidFill>
                  <a:srgbClr val="404040"/>
                </a:solidFill>
                <a:latin typeface="Verdana"/>
                <a:ea typeface="Verdana"/>
              </a:rPr>
              <a:t>2016.gada 4.janvāris - 2022.gada 31.decembri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0850CD-651B-4A9D-8F4C-5C0C10C7BA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6969240" y="-68400"/>
            <a:ext cx="170172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EC36E2-EC63-49F0-B673-F4AEC5D8D6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44200" y="780840"/>
            <a:ext cx="5992920" cy="1083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Kas ir sociālā uzņēmējdarbīb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582480" y="1515960"/>
            <a:ext cx="818208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ā uzņēmuma izveides mērķis ir vērsts uz sociālo vai sabiedrībai nozīmīgo problēmu risinā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ir tirgus dalībnieki, kas ražo preces un sniedz pakalp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Sociālie uzņēmumi gūto peļņu investē sociālā mērķa sasniegša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</a:rPr>
              <a:t>Tiek nodarbināti algoti darbiniek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sociālajos uzņēmumos, kuru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sabiedrībai svarīgas sociālas problēmas risināj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un nodarbināti darbinieki, ar kuriem nodibinātas darba tiesiskās attiecīb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darba integrācijas uzņēmumi - sociālo uzņēmumu veids, kuru galvenais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</a:rPr>
              <a:t>mērķis ir riska grupu nodarbinātīb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– integrācija darba tirg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8" descr=""/>
          <p:cNvPicPr/>
          <p:nvPr/>
        </p:nvPicPr>
        <p:blipFill>
          <a:blip r:embed="rId1"/>
          <a:stretch/>
        </p:blipFill>
        <p:spPr>
          <a:xfrm>
            <a:off x="7547040" y="111240"/>
            <a:ext cx="145260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3160" y="488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4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Content Placeholder 7" descr=""/>
          <p:cNvPicPr/>
          <p:nvPr/>
        </p:nvPicPr>
        <p:blipFill>
          <a:blip r:embed="rId1"/>
          <a:stretch/>
        </p:blipFill>
        <p:spPr>
          <a:xfrm>
            <a:off x="7151760" y="446040"/>
            <a:ext cx="1009440" cy="10638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2800" y="1712880"/>
            <a:ext cx="7920000" cy="440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mērķi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ir noteikt un pārbaudīt optimālus risinājumus sociālo uzņēmumu izveidei un attīstībai, tai skaitā darba integrācijas sociālo uzņēmumu atbalstam, lai palielinātu nodarbinātības iespēja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nelabvēlīgākā situācijā esošiem bezdarbniekie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-2854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personām ar invaliditāti un personām ar garīga rakstura traucējumiem</a:t>
            </a:r>
            <a:r>
              <a:rPr b="0" lang="lv-LV" sz="1400" spc="-1" strike="noStrike">
                <a:solidFill>
                  <a:srgbClr val="404040"/>
                </a:solidFill>
                <a:latin typeface="Verdana"/>
              </a:rPr>
              <a:t>.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76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a ietvaros tiks izveido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balsta sistēm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ietver sociālo uzņēmumu atlases kritērijus un atbalsta instrumentus. Tāpat atbalsta sistēmas ietvaros izstrādāts pasākuma dalībnieku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s un uzsākts reģistrācijas process, kurā varēs iesaistīties komersanti, biedrības un nodibināju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rojekts ļaus noteikt efektīvākās atbalsta formas sociālo uzņēmumu attīstībai, lai tiktu veidoti jauni uzņēmumi, radītas darba vietas un ieviestas jaunas un efektīvas pieejas sociālu problēmu risināšanā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F36D34A-E8CF-422B-872B-1F208BD481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71680" y="509400"/>
            <a:ext cx="651816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0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Projekta aktivitā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7160" y="1531440"/>
            <a:ext cx="8364240" cy="5627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biedrības izpratnes veidošanas un izglītošanas pasākum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r jaunā projekta iniciatīvu, par sociālās uzņēmējdarbības pazīmēm/kritērijiem, par atbalsta sniegšanas iespējām sociālajai uzņēmējdarbībai un šādas uzņēmējdarbības  pieredzi, projekta mērķa grupu un sabiedrības informēšana saistībā ar projekta uzsākš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(</a:t>
            </a:r>
            <a:r>
              <a:rPr b="0" i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)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a izstrāde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- projekta rezultātā izstrādāti un ieviest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zīmes/kritēriji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o uzņēmumu atpazīstamīb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dalībnieku atlase un reģistrācija (īsteno LM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ta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atbalsta sniegšana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mersantiem, biedrībām, nodibinājumiem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ALT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 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balsta sniegšana sociālās uzņēmējdarbības uzsācējie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ideju konkursa organizēšana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konsultāciju nodrošināšana sociālās uzņēmējdarbības uzsācēju biznesa plānu izstrādei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īsteno L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590560" y="6629400"/>
            <a:ext cx="198108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76920" y="6583320"/>
            <a:ext cx="3657600" cy="46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-720" bIns="-7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3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B253B2-8DB6-4C7D-9F10-CA7877D7AF1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Attēlu rezultāti vaicājumam “photos for registration”"/>
          <p:cNvPicPr/>
          <p:nvPr/>
        </p:nvPicPr>
        <p:blipFill>
          <a:blip r:embed="rId1"/>
          <a:stretch/>
        </p:blipFill>
        <p:spPr>
          <a:xfrm flipH="1" rot="18840000">
            <a:off x="7716240" y="243360"/>
            <a:ext cx="1182600" cy="118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8" descr=""/>
          <p:cNvPicPr/>
          <p:nvPr/>
        </p:nvPicPr>
        <p:blipFill>
          <a:blip r:embed="rId2"/>
          <a:stretch/>
        </p:blipFill>
        <p:spPr>
          <a:xfrm>
            <a:off x="7989840" y="4873680"/>
            <a:ext cx="102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64880" y="550800"/>
            <a:ext cx="6751800" cy="104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ieteikšanās reģistrācijai </a:t>
            </a:r>
            <a:br>
              <a:rPr sz="2400"/>
            </a:b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un a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ヒラギノ角ゴ Pro W3"/>
              </a:rPr>
              <a:t>tbalsta saņemšana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5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D00D31F-05AC-4C68-8D36-7E1BE28CA96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211400" y="2538360"/>
            <a:ext cx="16380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60" name="Straight Arrow Connector 7"/>
          <p:cNvCxnSpPr/>
          <p:nvPr/>
        </p:nvCxnSpPr>
        <p:spPr>
          <a:xfrm flipV="1">
            <a:off x="3018240" y="2562840"/>
            <a:ext cx="930240" cy="343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4199040" y="1919160"/>
            <a:ext cx="1141200" cy="1116000"/>
          </a:xfrm>
          <a:prstGeom prst="rect">
            <a:avLst/>
          </a:prstGeom>
          <a:ln w="0">
            <a:noFill/>
          </a:ln>
        </p:spPr>
      </p:pic>
      <p:cxnSp>
        <p:nvCxnSpPr>
          <p:cNvPr id="562" name="Straight Arrow Connector 9"/>
          <p:cNvCxnSpPr/>
          <p:nvPr/>
        </p:nvCxnSpPr>
        <p:spPr>
          <a:xfrm>
            <a:off x="4876560" y="3123720"/>
            <a:ext cx="1080" cy="963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3" name="Picture 11" descr=""/>
          <p:cNvPicPr/>
          <p:nvPr/>
        </p:nvPicPr>
        <p:blipFill>
          <a:blip r:embed="rId3"/>
          <a:stretch/>
        </p:blipFill>
        <p:spPr>
          <a:xfrm>
            <a:off x="4199040" y="4149720"/>
            <a:ext cx="1101600" cy="1062000"/>
          </a:xfrm>
          <a:prstGeom prst="rect">
            <a:avLst/>
          </a:prstGeom>
          <a:ln w="0">
            <a:noFill/>
          </a:ln>
        </p:spPr>
      </p:pic>
      <p:cxnSp>
        <p:nvCxnSpPr>
          <p:cNvPr id="564" name="Straight Arrow Connector 11"/>
          <p:cNvCxnSpPr/>
          <p:nvPr/>
        </p:nvCxnSpPr>
        <p:spPr>
          <a:xfrm>
            <a:off x="3019320" y="4013280"/>
            <a:ext cx="953280" cy="358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5" name="Content Placeholder 8"/>
          <p:cNvSpPr/>
          <p:nvPr/>
        </p:nvSpPr>
        <p:spPr>
          <a:xfrm>
            <a:off x="5673600" y="1797120"/>
            <a:ext cx="28051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1f497d"/>
                </a:solidFill>
                <a:latin typeface="Verdana"/>
              </a:rPr>
              <a:t>Labklājības ministr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reģistrēja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LM pasākuma dalībnieku reģistr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Content Placeholder 8"/>
          <p:cNvSpPr/>
          <p:nvPr/>
        </p:nvSpPr>
        <p:spPr>
          <a:xfrm>
            <a:off x="835200" y="4305240"/>
            <a:ext cx="244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Verdana"/>
              </a:rPr>
              <a:t>Uzņēm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1f497d"/>
                </a:solidFill>
                <a:latin typeface="Verdana"/>
              </a:rPr>
              <a:t>Komersants, biedrība, nodibināj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5562720" y="4149720"/>
            <a:ext cx="2728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Century Gothic"/>
              </a:rPr>
              <a:t>AL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Jāiesniedz biznesa plāns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ALTUM (vērtē ALTUM) un sociālās ietekmes apraksts (vērtē LM),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tiek slēgts līgums par</a:t>
            </a:r>
            <a:r>
              <a:rPr b="0" lang="lv-LV" sz="1200" spc="-1" strike="noStrike">
                <a:solidFill>
                  <a:srgbClr val="17375e"/>
                </a:solidFill>
                <a:latin typeface="Verdana"/>
              </a:rPr>
              <a:t> finanšu </a:t>
            </a:r>
            <a:r>
              <a:rPr b="0" lang="lv-LV" sz="1200" spc="-1" strike="noStrike" u="sng">
                <a:solidFill>
                  <a:srgbClr val="17375e"/>
                </a:solidFill>
                <a:uFillTx/>
                <a:latin typeface="Verdana"/>
              </a:rPr>
              <a:t>atbalsta saņemša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050920" y="544320"/>
            <a:ext cx="6096240" cy="1035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Turpmāk plānotās aktivitātes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39760" y="1795320"/>
            <a:ext cx="6718320" cy="4510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tlaban norisinās darbs pie Ministru kabineta noteikumu grozījumu izstrādes 2015.gada 11.augusta noteikumiem Nr.467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Darbības programmas "Izaugsme un nodarbinātība" 9.1.1. specifiskā atbalsta mērķa "Palielināt nelabvēlīgākā situācijā esošu bezdarbnieku iekļaušanos darba tirgū" 9.1.1.3.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pasākuma "Atbalsts sociālajai uzņēmējdarbībai"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īstenošanas noteikumi» ietva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eģistrācija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M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sākuma dalībnieku reģistrā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n atbalsta saņemšana ALTUM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uzsāksies </a:t>
            </a:r>
            <a:r>
              <a:rPr b="1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ēc MK noteikumu Nr.467 grozījumu stāšanās spēk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B4CF74-F722-42A5-BCAC-0FDB7303B6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7186680" y="3838680"/>
            <a:ext cx="1728720" cy="172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"/>
          <p:cNvPicPr/>
          <p:nvPr/>
        </p:nvPicPr>
        <p:blipFill>
          <a:blip r:embed="rId2"/>
          <a:stretch/>
        </p:blipFill>
        <p:spPr>
          <a:xfrm>
            <a:off x="6878520" y="1365120"/>
            <a:ext cx="22654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28880" y="60300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2200"/>
            </a:br>
            <a:r>
              <a:rPr b="1" lang="lv-LV" sz="2200" spc="-1" strike="noStrike">
                <a:solidFill>
                  <a:srgbClr val="404040"/>
                </a:solidFill>
                <a:latin typeface="Verdana"/>
                <a:ea typeface="Verdana"/>
              </a:rPr>
              <a:t>Informācija biedrībām un nodibinājumi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3760" y="1638360"/>
            <a:ext cx="8393040" cy="4991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2016.gada 15.decembrī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R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eimā  pirmajā lasījumā  pieņem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ociālās uzņēmējdarbības likum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aredz, ka sociālā uzņēmuma statusu Latvijā varēs iegūt </a:t>
            </a:r>
            <a:r>
              <a:rPr b="0" lang="lv-LV" sz="16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komersants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(plānotā spēkā stāšanās 2018. gada 1. janvārī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Likuma apstiprināšanas un spēkā stāšanās gadījumā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 kas projekta ietvaros 2017.gadā būs noslēguši līgumu ar «Altum» par finanšu atbalsta saņemšanu,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varēs turpināt darboties esošajā biedrības un nodibinājuma statusā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(līguma darbības laikā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Atkārtotai pretendēšanai finanšu atbalsta saņemšanai projekta ietvaros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no 2018. gada 1. janvāra, biedrībai un nodibinājumam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būs jāpārreģistrējas par komersantu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,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saskaņā ar jauno liku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Biedrības un nodibinājumi tiks informēti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 par iespējamām izmaiņām projekta ietvaros un </a:t>
            </a:r>
            <a:r>
              <a:rPr b="1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tālāko </a:t>
            </a:r>
            <a:r>
              <a:rPr b="0" lang="lv-LV" sz="1600" spc="-1" strike="noStrike">
                <a:solidFill>
                  <a:srgbClr val="404040"/>
                </a:solidFill>
                <a:latin typeface="Verdana"/>
                <a:ea typeface="Verdana"/>
              </a:rPr>
              <a:t>rīcību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7B0491-C0B3-459D-82C4-6A89B9A4B9A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66480" y="3225600"/>
            <a:ext cx="8289720" cy="2508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lv-LV" sz="2800" spc="-1" strike="noStrike">
                <a:solidFill>
                  <a:srgbClr val="404040"/>
                </a:solidFill>
                <a:latin typeface="Verdana"/>
                <a:ea typeface="Verdana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Raitis Bukovskis</cp:lastModifiedBy>
  <cp:lastPrinted>2017-01-24T12:45:49Z</cp:lastPrinted>
  <dcterms:modified xsi:type="dcterms:W3CDTF">2017-02-13T09:51:00Z</dcterms:modified>
  <cp:revision>420</cp:revision>
  <dc:subject/>
  <dc:title>PowerPoint Presentation</dc:title>
</cp:coreProperties>
</file>